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84690"/>
        <c:axId val="29431738"/>
      </c:barChart>
      <c:catAx>
        <c:axId val="98484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1738"/>
        <c:crosses val="autoZero"/>
        <c:auto val="1"/>
        <c:lblAlgn val="ctr"/>
        <c:lblOffset val="100"/>
        <c:noMultiLvlLbl val="0"/>
      </c:catAx>
      <c:valAx>
        <c:axId val="29431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84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696-A3D0-483B-B271-30257729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B4C-4166-4C3D-B4B0-15F29F16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438-BFAA-45FE-B67D-15A1D80D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BA6-5151-469C-998B-273282C5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BE3-4920-40EE-96B5-65029E7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EC5-7518-4137-B43E-29EA9E8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2B5-A60F-4F35-8060-30235091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A8D-6DA4-4EC0-9A00-221DDD5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821-897C-4B6C-A8FA-FBF52B1A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778-546A-448A-A5CF-43F500E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724-78DF-41E6-8923-B96CDE2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492-0249-490A-9D37-628683C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98FA7-F622-49AE-A307-79CCFD5AE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