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10054"/>
        <c:axId val="80207520"/>
      </c:barChart>
      <c:catAx>
        <c:axId val="4061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7520"/>
        <c:crosses val="autoZero"/>
        <c:auto val="1"/>
        <c:lblAlgn val="ctr"/>
        <c:lblOffset val="100"/>
        <c:noMultiLvlLbl val="0"/>
      </c:catAx>
      <c:valAx>
        <c:axId val="80207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1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34D-A6FA-489E-9521-A5417049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C2F-55B8-47D8-9B1E-76CEF8F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4E9-48AB-4B18-9209-3FE899D9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DEE-D7CE-4930-843F-7A001ED8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612-61EC-4BF5-B7AB-E78CCC19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C4B-CBC5-4D08-84A8-1DEA81E8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982-8209-4856-895C-AF24B9A0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EE1-A1E6-4FFC-9DF8-203D7DD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4BA-E3F3-4B60-B8E5-CB185F8C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9E0-CAA9-4069-A170-969F163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123-C7FA-44E2-876D-A8DC6FD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B01-D13C-4DFF-9688-A915D51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28F7-D8DA-4C05-ADB7-F69EA0A11C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