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70021"/>
        <c:axId val="50727655"/>
      </c:barChart>
      <c:catAx>
        <c:axId val="37470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27655"/>
        <c:crosses val="autoZero"/>
        <c:auto val="1"/>
        <c:lblAlgn val="ctr"/>
        <c:lblOffset val="100"/>
        <c:noMultiLvlLbl val="0"/>
      </c:catAx>
      <c:valAx>
        <c:axId val="50727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70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397-AB51-45E5-87E3-C7529077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66A-B12F-4332-BB6A-FF215177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654-D182-40B9-90DA-453749A4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BD6-7434-440F-878C-F92D85B6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2B1-15EC-45E6-91E9-90B7872D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EC6-762B-49F5-A29B-9E20FB5A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C60-92AA-47D1-865F-00275BAF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DFD-F113-4823-BE98-098CDDE1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EE7-349C-4EBB-8530-56F55B60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594-A6CC-49CB-8942-106D8DF0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09B-6872-44B7-9259-FED53246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203-B293-41E3-95F5-28E171FB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821AD-8698-44CE-A41E-B4AEFD763A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