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41692"/>
        <c:axId val="53276548"/>
      </c:barChart>
      <c:catAx>
        <c:axId val="34416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276548"/>
        <c:crosses val="autoZero"/>
        <c:auto val="1"/>
        <c:lblAlgn val="ctr"/>
        <c:lblOffset val="100"/>
        <c:noMultiLvlLbl val="0"/>
      </c:catAx>
      <c:valAx>
        <c:axId val="532765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416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B913-3A43-486B-8B6A-BBC9BD8B2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1A69-1519-488B-9559-2F2D2F26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D1B9-40DF-483F-BE26-11C73AE77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7354-6F06-4AB4-A1C3-F81223BC1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EF0C-36A1-48F0-A81C-6342E7D4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45F9-3638-459D-BF21-ED04F76A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833E-AB4E-42D3-8351-E1F219B4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64D2-873F-45F1-9B2E-73E42FB0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8008-2A85-468E-AF24-6B70CAFA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6D0D-D798-4F87-A26C-67694262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3774-F80A-4570-90E6-368C356E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CF6A-112A-4DA9-B197-BC9AC6A9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44032F-4180-45EB-B958-FE91E5C650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