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3560513"/>
        <c:axId val="42332424"/>
      </c:barChart>
      <c:catAx>
        <c:axId val="2356051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332424"/>
        <c:crosses val="autoZero"/>
        <c:auto val="1"/>
        <c:lblAlgn val="ctr"/>
        <c:lblOffset val="100"/>
        <c:noMultiLvlLbl val="0"/>
      </c:catAx>
      <c:valAx>
        <c:axId val="4233242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56051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2FF1E-5A8E-4037-B06B-0BA4573B0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07847-C6C4-48DE-B080-3438D0515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744EA-65F6-4DC2-A695-4DDB598C9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83855-4346-484A-ACB2-2CBE38015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EE8E8-7277-4191-A1ED-CB58C05B5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4B6D7-73A1-4BCA-892F-0410DAA83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4B4E3-C697-4317-A995-CF900FA25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23950-651C-40D8-9F1C-EDB6423A0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20B0F-57A4-489C-86CA-04E3A1542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6681E-481B-4F6D-8D18-9BC2ED24A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A5E1E-C74E-4F35-B272-F4C5A61E3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E6B91-CBE8-4B26-BCB3-61AC5FDA2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CD6611-715E-4CC4-AAE0-798C93A489A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