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13330"/>
        <c:axId val="17883044"/>
      </c:barChart>
      <c:catAx>
        <c:axId val="1231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3044"/>
        <c:crosses val="autoZero"/>
        <c:auto val="1"/>
        <c:lblAlgn val="ctr"/>
        <c:lblOffset val="100"/>
        <c:noMultiLvlLbl val="0"/>
      </c:catAx>
      <c:valAx>
        <c:axId val="17883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1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279-4420-4C72-AFA9-438880A6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F72-024A-4017-85EB-8FABFA6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AE-96A4-4C2E-959A-DB1070FE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7AF-B113-4F9A-82B4-BB237701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C4A-32AA-4717-9C58-0F60AF4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1A3-394E-4762-8C9D-88244C7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923-14DD-4508-8A37-5C4A503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E29-B332-410E-B255-66199EA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F2F-8B82-4813-AFB9-E04E552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B92-43B5-4AF9-8BB5-196814A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E99-D2B5-4194-88C9-2568678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870-240A-4BDF-B82A-0AB155F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76EBB-1D8A-42BC-88E4-BA7158F36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