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41533"/>
        <c:axId val="42158994"/>
      </c:barChart>
      <c:catAx>
        <c:axId val="73041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8994"/>
        <c:crosses val="autoZero"/>
        <c:auto val="1"/>
        <c:lblAlgn val="ctr"/>
        <c:lblOffset val="100"/>
        <c:noMultiLvlLbl val="0"/>
      </c:catAx>
      <c:valAx>
        <c:axId val="42158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1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6D-E8CD-446A-9D19-21E421A9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67F-100B-4C4E-BF26-DE31244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44E-0FA1-4E29-BE37-9A8266F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A48-2FA8-4546-8F18-E7D1BBB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0DF-AE16-4BB3-A788-A3ECA4E1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7D1-C015-4418-A947-8553DAC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F50-CB81-4CA7-850A-CA72CC1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DBD-181F-4215-B5D4-A907074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F79-75FD-4BAB-9643-CD7B9D8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1B0-60F0-428F-960B-845BAE2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7FB-59B4-4B24-ABE8-E6656F8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92E-7230-4E26-83E6-46D16441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534BD-E725-4EA7-A923-EBD54CF660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