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64048"/>
        <c:axId val="92103137"/>
      </c:barChart>
      <c:catAx>
        <c:axId val="10864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03137"/>
        <c:crosses val="autoZero"/>
        <c:auto val="1"/>
        <c:lblAlgn val="ctr"/>
        <c:lblOffset val="100"/>
        <c:noMultiLvlLbl val="0"/>
      </c:catAx>
      <c:valAx>
        <c:axId val="92103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64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265-D953-449A-85DC-5009223E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2A7-7E92-4BB7-A48D-E0EBC33F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5D2-E0E4-43A6-B4D8-50619A5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EC7-0368-4CE4-AB44-508F5D69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03D-C143-4BFF-B59D-62F4E18A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569-BB72-43C7-8827-DC2C1612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064-813D-4079-A0ED-6EC19CF3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8D7-BDE5-455C-AD5C-E69F3C2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427-6C09-4578-8880-0CF0018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3AB-1C8C-429C-9562-E42A775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B1C-0EAE-4E04-B887-555CADAE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A06-3BF9-4521-9661-5A61D2BA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6A9DF-A7F1-46FB-95AF-04EEBDD1CE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