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18698"/>
        <c:axId val="19288672"/>
      </c:barChart>
      <c:catAx>
        <c:axId val="92818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88672"/>
        <c:crosses val="autoZero"/>
        <c:auto val="1"/>
        <c:lblAlgn val="ctr"/>
        <c:lblOffset val="100"/>
        <c:noMultiLvlLbl val="0"/>
      </c:catAx>
      <c:valAx>
        <c:axId val="19288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18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03A-19C2-48EC-AC8B-C69BF933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2E0-E475-407E-B3FB-00705F19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B17-C86C-4A4F-807A-30CB5BBB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C10-CA8C-43C1-A95C-8562503D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EDA-3CC5-4477-83FC-0EEEED7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014-31EE-45F5-9E50-48C59E36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FC7-EAA4-46F3-96D7-725D96FA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9BE-4085-4615-B589-230C4F96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A20-CB9C-4BA5-886B-A6CBFF14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EA9-A027-4558-94F6-C1A095D8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54B-429C-4875-A762-2A2E5672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934-221B-44DA-A92A-0D1ED025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23877-B44B-4362-BCDE-21CB743A87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