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16652"/>
        <c:axId val="3836625"/>
      </c:barChart>
      <c:catAx>
        <c:axId val="77816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6625"/>
        <c:crosses val="autoZero"/>
        <c:auto val="1"/>
        <c:lblAlgn val="ctr"/>
        <c:lblOffset val="100"/>
        <c:noMultiLvlLbl val="0"/>
      </c:catAx>
      <c:valAx>
        <c:axId val="3836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16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D78-ED0C-4357-9324-F88914C8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C14-FB54-4AAB-B6F4-F6E03BD7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937-1BAA-437C-8BE2-D4DFC418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F4E-11C1-410C-A888-171DB5BB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AAB-EAAC-4AC9-9F68-7C774BB6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64F-F1B8-4D2A-9BD8-E228A42D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C3B-A62B-4CA0-A75C-26878FA1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14F-D929-47FA-BA01-E5ED6FA7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506-CA8C-4FA3-9229-5D266511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2F5-7E7F-40BD-8B2D-7BC60DB0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E1B-B715-4BB2-AEE4-53646083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1A1-F74D-42A3-8155-37FCA9EC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5F403-3AF0-4F39-AA00-6949AA8499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