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44979"/>
        <c:axId val="79611181"/>
      </c:barChart>
      <c:catAx>
        <c:axId val="395449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11181"/>
        <c:crosses val="autoZero"/>
        <c:auto val="1"/>
        <c:lblAlgn val="ctr"/>
        <c:lblOffset val="100"/>
        <c:noMultiLvlLbl val="0"/>
      </c:catAx>
      <c:valAx>
        <c:axId val="79611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449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07B-CF78-414C-B725-040BC76D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8CD-0934-4763-B2CE-7066D715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7A8-C116-422E-A4C3-6AD1C2BB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946-6142-442F-96AA-4D3898A7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4365-0CEB-41D0-B763-3751F8E1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CEA2-CDB9-43AF-9883-ACFD0B8E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125-17B6-4A0A-AB6E-092DDF5F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285-F286-4FC6-9836-DDEF7393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E44-0227-4E82-873B-231186B5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FAD-DB63-4ADE-90F8-B811DB9C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932-E4F3-4E3C-84C9-C77B8AA0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5F3-349A-4CC7-AE3B-4A53EC72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5D2A4-DD34-4CAC-ABDC-3CD9E6FA7E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