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791751"/>
        <c:axId val="44458284"/>
      </c:barChart>
      <c:catAx>
        <c:axId val="907917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458284"/>
        <c:crosses val="autoZero"/>
        <c:auto val="1"/>
        <c:lblAlgn val="ctr"/>
        <c:lblOffset val="100"/>
        <c:noMultiLvlLbl val="0"/>
      </c:catAx>
      <c:valAx>
        <c:axId val="444582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7917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A2D3-C15F-45B9-AC71-D913FABF0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ED2C-99CF-4856-A4F9-EAB563F44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9C19-29B4-49FE-AC16-21D8D9EAB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5392-C88F-49F2-826D-466B3F3D6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BDA9-F246-4C27-AC64-03FDBA5EA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6A92-6CF5-4532-883A-BDB7EDBE8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0DFC-253E-4C7E-89C8-F4120E44F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459C-1BF2-430F-BDFC-8D78107F9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8A91-ABBE-400C-978D-33155158D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1DB7-76B8-46FD-918E-9AFCF3A8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E878-352A-4CB5-B0F5-42404FC3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C773-A6A4-4074-AFEF-E11956D3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062E8A-3D7C-46DE-A7F6-23053255D04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