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03530"/>
        <c:axId val="37505551"/>
      </c:barChart>
      <c:catAx>
        <c:axId val="28503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05551"/>
        <c:crosses val="autoZero"/>
        <c:auto val="1"/>
        <c:lblAlgn val="ctr"/>
        <c:lblOffset val="100"/>
        <c:noMultiLvlLbl val="0"/>
      </c:catAx>
      <c:valAx>
        <c:axId val="37505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3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E27-EE78-4685-BC65-DAA4CA2D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A72-3A05-44E7-A7C1-475C9AE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E0C-4BD0-4196-8A50-9E178DDA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76C-4EAB-49B8-AAFB-04EFC0BD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FA5-130F-4074-8BC9-B929ADD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C2E-32CF-40A2-92BF-28DEDD39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F5C-1391-4871-80BC-82AA8D8F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EAB-146B-461C-BC47-69928651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0EF-B6AA-4E35-8E17-22D80B7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B78-E4F9-4895-A471-D27D585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7C7-6BF1-472B-8169-7AFD5A1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8F5-577C-4AE7-AFC1-BC1A2E9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6C6C-9B98-492A-936F-4A3FF47DB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