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9651"/>
        <c:axId val="30620645"/>
      </c:barChart>
      <c:catAx>
        <c:axId val="6919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20645"/>
        <c:crosses val="autoZero"/>
        <c:auto val="1"/>
        <c:lblAlgn val="ctr"/>
        <c:lblOffset val="100"/>
        <c:noMultiLvlLbl val="0"/>
      </c:catAx>
      <c:valAx>
        <c:axId val="30620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9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43A-9E06-4593-B30F-DC958773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3A5-9189-4488-BA9A-F44C66BF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3DA-6E3D-4170-8706-97B10E84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475-DEEF-4A40-8FBF-91E78583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957-05CD-4410-8D84-9FC7265B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383-CD0F-4CBF-ABE4-91631257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0CA6-D0DC-4B65-8EE4-1FE5EFC8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3EC-9D00-44D7-B2F7-08EF07AC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6EC-CF8C-4050-8986-9A44DAB2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FE6C-EC30-41E1-B4AF-C690DC56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4CB-4B48-4B1F-9DE3-3AA18C65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4BA9-096F-46B8-8D7C-AA9AA2A4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D5650-9C54-4652-8EDA-43B0E1E80F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