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80318"/>
        <c:axId val="17827578"/>
      </c:barChart>
      <c:catAx>
        <c:axId val="606803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27578"/>
        <c:crosses val="autoZero"/>
        <c:auto val="1"/>
        <c:lblAlgn val="ctr"/>
        <c:lblOffset val="100"/>
        <c:noMultiLvlLbl val="0"/>
      </c:catAx>
      <c:valAx>
        <c:axId val="17827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803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B46-D3E2-4156-B4E2-ED6908D2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E3E3-750C-489A-AA17-D92E9D1C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9A2B-2770-46E4-89A4-E283DEC8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40B1-F858-4C06-BEBE-048338B8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EC9B-2AEA-420F-B604-DA167FD4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4B4-E72D-410B-8D76-86979E77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D721-C4CC-4F00-B3AD-3C9A6A5F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6A50-978F-4DDC-A2FF-513F2656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07C3-321C-4AA5-BF93-EE0B8035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201-77BC-4EFD-9357-1EB988CA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DFD-C184-4C05-A764-7AE81F6D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A59-1F8E-404C-A6C0-2B01257B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249E5-8BF4-4CCD-A3D8-CBFCF90D93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