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15327"/>
        <c:axId val="80163935"/>
      </c:barChart>
      <c:catAx>
        <c:axId val="97915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63935"/>
        <c:crosses val="autoZero"/>
        <c:auto val="1"/>
        <c:lblAlgn val="ctr"/>
        <c:lblOffset val="100"/>
        <c:noMultiLvlLbl val="0"/>
      </c:catAx>
      <c:valAx>
        <c:axId val="80163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15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10C-76B9-488E-971C-C6B72730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6DF-3565-4AA0-ABF1-324F197D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7C8-C2B7-4449-A787-C1283144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6D9-56F1-4CC3-BED6-8B096CA1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7B7-9C82-4788-8891-6C60AA36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0DB-8912-445A-AE47-63006CED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EEC-C267-4D3A-847D-5ABF871E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8AE-FB8A-42AA-887E-34FEDCE1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E6E-A972-4686-8D47-276B515B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697-562E-40AD-BB55-EC52A88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CE8-7929-4B82-9D46-DE527C2E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D5D-8A9C-4A1C-A249-8968799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84765-2C1F-4548-A22C-E76A2F447A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