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14964"/>
        <c:axId val="49113823"/>
      </c:barChart>
      <c:catAx>
        <c:axId val="37214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13823"/>
        <c:crosses val="autoZero"/>
        <c:auto val="1"/>
        <c:lblAlgn val="ctr"/>
        <c:lblOffset val="100"/>
        <c:noMultiLvlLbl val="0"/>
      </c:catAx>
      <c:valAx>
        <c:axId val="49113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14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A6D-90EE-4169-8D3A-4D5EAB4A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0BC-30FD-4144-A941-0D5EC838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97C-4FC1-4CAA-8A67-EF664453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12F-9102-4B94-837F-D1AF0B41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538-A72F-4594-AC36-83B98F45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68D-9D30-4E80-B791-E7447DA8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17E-4C5F-4132-A4F2-B907584C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102-86D1-410C-BFE6-A4612715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92E-239F-42C3-9C1F-C6306DFD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BB0-7C6B-41AE-B7A9-1A65DF3D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3AE-58FE-41FF-B504-EC82B671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028-85F8-46EC-87F0-F534147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6FCDC-C63A-4CC4-B665-67A698440A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