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87153"/>
        <c:axId val="7905186"/>
      </c:barChart>
      <c:catAx>
        <c:axId val="97187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5186"/>
        <c:crosses val="autoZero"/>
        <c:auto val="1"/>
        <c:lblAlgn val="ctr"/>
        <c:lblOffset val="100"/>
        <c:noMultiLvlLbl val="0"/>
      </c:catAx>
      <c:valAx>
        <c:axId val="7905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87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28C-402B-4054-AA3F-99CEC966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811-A513-4238-BEF7-1BA36766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5C2-3543-454E-BC92-F34C57DB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1E7-467D-465F-85D4-1A42E7A6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B17-0C0D-4225-B514-F20DAB29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22D-9FFB-43F9-BA56-81582110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B11-54BA-4F6A-A120-CC9F1182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258-F475-46CA-8BD0-B7250326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BA0-7A4F-4A91-A3AE-9644D41F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14E-6076-48E3-B521-08ACF3E0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1CB-D009-4E2E-8A22-67EF431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45B-F524-41C6-8884-FDBA67C4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269CB-AC99-4F9C-B1B5-A0FC9A637E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