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48846"/>
        <c:axId val="66075215"/>
      </c:barChart>
      <c:catAx>
        <c:axId val="95748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75215"/>
        <c:crosses val="autoZero"/>
        <c:auto val="1"/>
        <c:lblAlgn val="ctr"/>
        <c:lblOffset val="100"/>
        <c:noMultiLvlLbl val="0"/>
      </c:catAx>
      <c:valAx>
        <c:axId val="66075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48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BE2-46F1-4B72-9805-5A7D4CF1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C42-D0AE-463E-99B6-464A8039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6C4-B13E-421D-B0DA-855318DD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BF1-C954-425F-B3E0-25CAE1FD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8D6-EA20-415E-8E79-4C1622AB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FAE-FF1E-45EA-9D99-58A562DA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BD3-65D4-4185-B8BF-073DEDD9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7F4-28FE-4797-B2EA-458BCC0D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CD6-EBA3-4133-9E47-E302329E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BA1-EE12-4389-B97C-83521A6D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234-2BDB-411B-AF66-895183FB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844-EDC9-4299-B427-350C9950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EC391-C97B-48F5-A7DD-52BF812EC3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