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84563"/>
        <c:axId val="50726553"/>
      </c:barChart>
      <c:catAx>
        <c:axId val="47184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26553"/>
        <c:crosses val="autoZero"/>
        <c:auto val="1"/>
        <c:lblAlgn val="ctr"/>
        <c:lblOffset val="100"/>
        <c:noMultiLvlLbl val="0"/>
      </c:catAx>
      <c:valAx>
        <c:axId val="50726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84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C13-B120-483A-9C7D-7B3E3D2A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E0E-495D-4AB1-98A9-72AA353A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E3F-429A-4DAA-8E7C-A715A259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048-C0F3-42C0-89C1-DE4A3544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BDA3-A735-4D51-AF34-561DB37E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8AD-B70D-47F4-9C57-B22CE647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ADC-4AD5-4CF0-A0CE-6FC79AC4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E00-B918-49AF-B620-843314ED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F59-9233-4EC6-8525-13A6D487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4ACF-6D8C-43C0-B718-85D18BD9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FCD-E7E1-452D-A397-2A9FE98F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B6C-26DB-45DF-A7C2-7682702B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0C95F-4A67-490B-A7C1-5EA959AAB9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