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6475647"/>
        <c:axId val="69592201"/>
      </c:barChart>
      <c:catAx>
        <c:axId val="5647564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592201"/>
        <c:crosses val="autoZero"/>
        <c:auto val="1"/>
        <c:lblAlgn val="ctr"/>
        <c:lblOffset val="100"/>
        <c:noMultiLvlLbl val="0"/>
      </c:catAx>
      <c:valAx>
        <c:axId val="6959220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47564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8B78B-031D-43C1-8773-72984A0A9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73279-1F40-468D-8DC2-BC3AAAA63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4B5A7-7C93-4AD7-A249-A731EA753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90819-81C2-411B-9142-D14CD6467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81F12-354D-4DB5-87A5-9DC87648B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374BD-FBBA-449A-9809-2DD8FE205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33B5B-910D-48CF-95A5-2914ABD7E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16130-6184-490D-9AB6-98B476385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B21C5-307B-4529-BAE9-F4FA0A903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99421-CD46-442E-AA98-B4A993704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48D38-A970-4D4D-8E22-5E36EC666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49FD7-6722-4164-8510-02C049E07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36B7C5-084B-4E39-9E70-33ACC115E14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