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12179"/>
        <c:axId val="89163882"/>
      </c:barChart>
      <c:catAx>
        <c:axId val="10512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63882"/>
        <c:crosses val="autoZero"/>
        <c:auto val="1"/>
        <c:lblAlgn val="ctr"/>
        <c:lblOffset val="100"/>
        <c:noMultiLvlLbl val="0"/>
      </c:catAx>
      <c:valAx>
        <c:axId val="89163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12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5A3-6C8E-4B73-9FD0-16F6462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7B8-5EE3-400C-A600-D430E354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C51-C88A-46D3-88CA-65CA75F5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FB4-E133-444F-B78D-7CCB99EC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4BE-E780-4227-BB8C-56B8043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774-C9B4-4592-AEA4-F5E736D7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DAF-2038-4239-B2A6-F039A6BF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74C-A7DD-4C0E-9A8D-FD94A811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8FB-C28F-4FF9-AA90-4833CFE3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30E-7EF9-4A9B-8071-942F6B5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303-F71C-486D-A0B5-C7DB643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834-E071-4896-A8B4-23C16BA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95DE7-007F-46AD-BACB-D6FA95D45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