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9331"/>
        <c:axId val="98250845"/>
      </c:barChart>
      <c:catAx>
        <c:axId val="7419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0845"/>
        <c:crosses val="autoZero"/>
        <c:auto val="1"/>
        <c:lblAlgn val="ctr"/>
        <c:lblOffset val="100"/>
        <c:noMultiLvlLbl val="0"/>
      </c:catAx>
      <c:valAx>
        <c:axId val="98250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9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54E-096D-4D99-8BC1-0E7897ED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14B-805D-4302-8AF1-403033CA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00F-B22C-4170-B881-3614BAE0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4AF-A617-4975-AE57-6DA3215B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989-0D8F-4809-98D1-C876AEB2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CD8-7F62-4733-A38F-D7184995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F50-706A-4289-AE28-B13EC62A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FF3-4865-4B4F-B36B-8733E87B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116-4AC7-47F1-AE0A-292C911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9C0-DC64-4B2C-9B18-F1202406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440-3F6A-4B2C-809B-9EA863F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519-26F8-4BED-8898-D86C6BB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A092E-CA65-4DE4-AB8B-B2A92CB592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