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11524"/>
        <c:axId val="1424410"/>
      </c:barChart>
      <c:catAx>
        <c:axId val="79111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4410"/>
        <c:crosses val="autoZero"/>
        <c:auto val="1"/>
        <c:lblAlgn val="ctr"/>
        <c:lblOffset val="100"/>
        <c:noMultiLvlLbl val="0"/>
      </c:catAx>
      <c:valAx>
        <c:axId val="1424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1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C79-DD69-4EF5-A2D2-6F6B5380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FB6-E9A9-48F4-9C64-9B4E3769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97B-A5D2-4354-9F32-83987443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E87-D05E-4119-AB51-BA24DBB2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676-EAF5-4265-854C-9BACB7C7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5D2-63A5-4E5D-81A5-670A6800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33E-A745-4AA9-9513-99B692ED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86C-9AAF-41B3-8F87-F94A8F4D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159-31DB-4458-B9BC-570051EF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5E4-5069-4727-B91A-FD71739D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C90-F59E-4332-BF2C-391FD59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746-6BC2-4B11-BAB7-A105A671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E3941-8CF7-42D0-9924-29F461A9C0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