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34011"/>
        <c:axId val="9409821"/>
      </c:barChart>
      <c:catAx>
        <c:axId val="60734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9821"/>
        <c:crosses val="autoZero"/>
        <c:auto val="1"/>
        <c:lblAlgn val="ctr"/>
        <c:lblOffset val="100"/>
        <c:noMultiLvlLbl val="0"/>
      </c:catAx>
      <c:valAx>
        <c:axId val="9409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4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F4C-D6FA-4C37-A369-52140825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4FF-8F5F-4EB0-8C00-F9EA792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46E-013A-4552-886F-333B2F24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094-D2DF-4502-80E4-8BB7DA07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61F-5559-418B-8A4D-2F934B4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AE9-BD60-48A4-A357-58C177A6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78-D250-4548-B3DA-BDB9EE3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024-D817-4496-BEC5-716AB10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04C-066C-4933-9798-EDEACEC4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A28-32A3-4166-82CC-3A71F2E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264-9150-4791-B9E7-16E5541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AE0-A091-4AC0-ADC3-69CAC36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A0A75-AE1C-45F8-9F6B-4F66CD298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