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19599"/>
        <c:axId val="63744997"/>
      </c:barChart>
      <c:catAx>
        <c:axId val="78019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44997"/>
        <c:crosses val="autoZero"/>
        <c:auto val="1"/>
        <c:lblAlgn val="ctr"/>
        <c:lblOffset val="100"/>
        <c:noMultiLvlLbl val="0"/>
      </c:catAx>
      <c:valAx>
        <c:axId val="63744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19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FED-9CA6-4380-9C9A-218EE92A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F93-DA90-462A-A578-1224B6D4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841-E911-45BE-8C06-1F4EF398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C2F-EA00-4444-949B-F4E440EF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6FD-CF03-451E-96AB-3C96B499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B44-BC0D-41D0-8569-92F9A8A2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950-69B8-4F30-872F-CAEC7DF3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CFB-A252-454B-A6DD-E9B8F034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57B-0939-4082-80FE-347534D4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292-6482-4F23-9FCE-53C9BB0B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741-70AA-423A-A69A-8DC542ED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A3C-1C0F-4C81-910F-5EE8F53C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48CFD-9D62-4F0D-9204-AC44EE8525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