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92413"/>
        <c:axId val="49952082"/>
      </c:barChart>
      <c:catAx>
        <c:axId val="53292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52082"/>
        <c:crosses val="autoZero"/>
        <c:auto val="1"/>
        <c:lblAlgn val="ctr"/>
        <c:lblOffset val="100"/>
        <c:noMultiLvlLbl val="0"/>
      </c:catAx>
      <c:valAx>
        <c:axId val="49952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92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283-3B90-448F-8BF3-0FC11B03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1F3-D862-4FE8-A2AD-1931D0BE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3DE-4951-4D8B-98EC-CF583DA6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D8A-DC69-4823-8311-229B715E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ADE-80F1-45BB-99A2-3190B77C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946-966D-4129-BA79-C1D291F7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872-7B23-451F-BC35-D6D9D35B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559-6CFF-44EA-81E5-BA58E05E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03D-63D9-4C2B-B69E-572C08D7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E70-0C28-4F70-BEA9-18FB9FE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732-5EA6-4463-A643-6B6B3715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FA3-EA31-41E0-9CDE-A977DB2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C8F7F-66B1-462E-ABFE-C7119AADA3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