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1838"/>
        <c:axId val="2057142"/>
      </c:barChart>
      <c:catAx>
        <c:axId val="33581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142"/>
        <c:crosses val="autoZero"/>
        <c:auto val="1"/>
        <c:lblAlgn val="ctr"/>
        <c:lblOffset val="100"/>
        <c:noMultiLvlLbl val="0"/>
      </c:catAx>
      <c:valAx>
        <c:axId val="2057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1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479-ED97-46FC-964D-C0628B83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9DC-0EB4-4193-B68E-9015EA5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B9A-47B1-40A3-873F-DFC259E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C5A-61D0-4D58-829F-8A742541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F74-41C3-402D-A81C-350D2B28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747-9190-4C74-8E08-8F47726C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348-BA4D-4587-942A-211973E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187-162D-4C15-8B56-1B7CC73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5E9-E21E-4325-A18F-761F460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06C-F3C3-449A-B991-C1F4B319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F1C-48F8-4EE8-AD0D-6C9DE6B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053-3843-47E2-95A5-2B18A8D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7F134-35C9-406F-ACD3-57A54F40B7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