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04967"/>
        <c:axId val="28553720"/>
      </c:barChart>
      <c:catAx>
        <c:axId val="95204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53720"/>
        <c:crosses val="autoZero"/>
        <c:auto val="1"/>
        <c:lblAlgn val="ctr"/>
        <c:lblOffset val="100"/>
        <c:noMultiLvlLbl val="0"/>
      </c:catAx>
      <c:valAx>
        <c:axId val="28553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04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7BC-3C7F-4547-A1B1-F37CD2EA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1A2-5D6D-4237-BEC1-555223B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B35-65E9-4A5C-9D06-50200C1C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4F4-A7D4-4571-B0D1-090CC33B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627-09F2-40C7-BC19-E70D76B8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C7B-C79F-44A3-9E90-C20533F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CDF-BCEE-488B-AC3B-25B5BE3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238-BE4F-456A-8A25-FBD6AACA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5AE-0F78-4AB3-A3EC-25C9F43F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D7E-3F12-4DDF-8329-D3CBFE1E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20B-DF2B-400E-9479-B0A47403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C64-B10C-4554-B791-FB159570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811FF-7C69-4ADF-A949-E1C0BE61E0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