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45843"/>
        <c:axId val="42271437"/>
      </c:barChart>
      <c:catAx>
        <c:axId val="415458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71437"/>
        <c:crosses val="autoZero"/>
        <c:auto val="1"/>
        <c:lblAlgn val="ctr"/>
        <c:lblOffset val="100"/>
        <c:noMultiLvlLbl val="0"/>
      </c:catAx>
      <c:valAx>
        <c:axId val="422714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458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B0D-B3F9-4746-9F05-428BCC33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F234-BF9C-440F-8C80-D350FF16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F24-165E-4F89-B9BB-449F2FD2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EA24-A899-428D-A32E-3E46E552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E6D2-CA15-43A3-BE7E-4BEA310A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D8F-E22B-4E46-B1D1-53E6E9A7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C03-FCAA-4B83-A44E-7460CC6B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C82-6BE8-4DFC-9587-C178BE28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F9AC-AB27-4CC0-8D74-BDD54BAC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4E1E-FF57-4E33-9901-ECB18D56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EC04-97ED-4C38-A3CA-CEAF72E3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E279-523E-4DF0-BEFB-3D2D1149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9AE6F-DF8D-4768-81B3-AF064770F2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