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28273"/>
        <c:axId val="97450870"/>
      </c:barChart>
      <c:catAx>
        <c:axId val="36928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50870"/>
        <c:crosses val="autoZero"/>
        <c:auto val="1"/>
        <c:lblAlgn val="ctr"/>
        <c:lblOffset val="100"/>
        <c:noMultiLvlLbl val="0"/>
      </c:catAx>
      <c:valAx>
        <c:axId val="97450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8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ED7-2B2F-43B2-B106-C519FAD0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7E4-9C62-418E-8B30-D1CBAD2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36B-16DA-41AB-A05A-F294A6F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B01-E677-42E3-9704-F7E5EC9C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8D8-3DC4-417D-AA62-C608A8F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A03-DE61-409B-946A-68EFF976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935-815F-46D6-9549-3E5162F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1D3-5516-4580-B45E-52A9893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9FD-4215-4F6F-ADB2-185886A9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E99-E17D-4A8D-848F-EFAF015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F50-36B8-4A92-9246-C89F874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2D7-F09B-4699-9A79-462BFDB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62BF7-3C24-4357-9F89-AA9B599E0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