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556336"/>
        <c:axId val="88041190"/>
      </c:barChart>
      <c:catAx>
        <c:axId val="915563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41190"/>
        <c:crosses val="autoZero"/>
        <c:auto val="1"/>
        <c:lblAlgn val="ctr"/>
        <c:lblOffset val="100"/>
        <c:noMultiLvlLbl val="0"/>
      </c:catAx>
      <c:valAx>
        <c:axId val="880411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563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6E61-8EC7-4ACE-A53B-4A552FB66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309F-ADFF-4764-A540-EF5502C2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33E5-7C0E-412D-AA30-552A3C4E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D34B-BB9E-4F21-8CAF-2B7FD999B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E6EC-51B5-4FC3-B70F-2869E3D3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934A-0067-4ACC-A956-BF33C9D4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1DD2-86A6-4647-B43F-EC595F55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79C3-56E4-4EC2-B794-49013499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E04D-D45F-46BA-8B37-C221CCDF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80F1-0F2A-4647-963D-DA128CD3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D67E-3209-4330-8EB4-98C5DFFC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EA92-5C01-4599-BB15-6642E26F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A4AE1-5B7E-4E30-83BA-07080828C8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