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06310"/>
        <c:axId val="58417184"/>
      </c:barChart>
      <c:catAx>
        <c:axId val="38306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17184"/>
        <c:crosses val="autoZero"/>
        <c:auto val="1"/>
        <c:lblAlgn val="ctr"/>
        <c:lblOffset val="100"/>
        <c:noMultiLvlLbl val="0"/>
      </c:catAx>
      <c:valAx>
        <c:axId val="58417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06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AFF-5FEC-4CDE-A629-727A0C09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2BB-0DEC-4FE2-91C0-604A316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891-70E3-4917-BCDC-FC5C7D5A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A2F-45F8-4888-8EF7-88333C47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8CA-0FD8-48C1-A2CD-449093BC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A6E-153E-46B4-BCF9-7C6DEBFB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AF6-9743-4092-8D85-C2B1B1C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717-8A22-4F10-BF0B-360ABA5C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FA8-80BF-4390-8B73-03B1BA5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438-8C6D-441D-86CB-8EF5F58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7C4-E5A5-4EDA-8657-15C27E4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3AF-4C56-4BC4-A8FE-CA5B637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F746D-D992-4B3E-9007-26FB5F4C0B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