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52039"/>
        <c:axId val="87340625"/>
      </c:barChart>
      <c:catAx>
        <c:axId val="90052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40625"/>
        <c:crosses val="autoZero"/>
        <c:auto val="1"/>
        <c:lblAlgn val="ctr"/>
        <c:lblOffset val="100"/>
        <c:noMultiLvlLbl val="0"/>
      </c:catAx>
      <c:valAx>
        <c:axId val="87340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52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A00-D181-41DA-A1BA-EAE3E0E0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2D86-07E1-4BF5-B135-C6B711A3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DDBD-210C-4BEB-8858-7E1415EF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B56-BE6E-4C4F-8265-5FB59932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31C-D7D9-4280-BA50-F7AA73E5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B3F-4ECF-430F-B0E8-44957409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AAF-367B-46AC-B672-C43D4433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7BA-9300-4994-BFF9-C63A5EC8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F90-50D5-488F-B6A8-14741544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4704-B1FE-42AE-8081-65668137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2D8-6E44-48C2-8A32-092FADD7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9E1-10C3-4322-97B1-C44329BF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DE6B7-FD87-40E0-A8D4-9D67ACB174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