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95208"/>
        <c:axId val="39345988"/>
      </c:barChart>
      <c:catAx>
        <c:axId val="51395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5988"/>
        <c:crosses val="autoZero"/>
        <c:auto val="1"/>
        <c:lblAlgn val="ctr"/>
        <c:lblOffset val="100"/>
        <c:noMultiLvlLbl val="0"/>
      </c:catAx>
      <c:valAx>
        <c:axId val="39345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5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BF1-DC9D-434E-B501-38EE0B6A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5C4-69F2-4E75-B3B1-35F7AD5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062-ADE4-42A7-9EFB-83D49D80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874-5794-47E2-A0AC-92B7D05A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16B-30AF-4A4B-8E47-3D433E9C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040-889E-420B-8092-FEC3D22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2F8-5438-4B86-BAB2-7A478848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1F7-B114-440E-81AF-9E87269C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7AC-D6BA-4DB4-9761-7F5B7137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6A9-ABE3-4EF2-9605-867593A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027-9FFF-4055-8206-1FC03F0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37F-5DB1-443B-89F2-B9C6103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CDC99-852D-4F1B-AD45-B91A965DF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