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54484"/>
        <c:axId val="85124570"/>
      </c:barChart>
      <c:catAx>
        <c:axId val="38544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24570"/>
        <c:crosses val="autoZero"/>
        <c:auto val="1"/>
        <c:lblAlgn val="ctr"/>
        <c:lblOffset val="100"/>
        <c:noMultiLvlLbl val="0"/>
      </c:catAx>
      <c:valAx>
        <c:axId val="851245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44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C719-12BD-4263-B1E0-CA1D3044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A1D6-75C6-44EC-B5C1-AFEB2015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7961-89B4-4EE7-8975-558B8941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B884-A833-4B0E-B476-FB4D135B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80D5-F8A2-4059-A731-63940137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AD30-03B5-4DCE-92AE-A30638FA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92B2-4C4B-454C-B0CC-7566BBC4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8FCE-448C-45A9-9088-AC63AFA5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789F-D475-4027-B774-14EF3627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3367-4C4B-45FC-8D7A-D3BE6A3E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F866-27F0-47CA-8883-09F12478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B2FB-DE82-4F2D-ADF3-0A49689F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90781-1FB9-40C4-9AC2-F7244E05B2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