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56520"/>
        <c:axId val="56994913"/>
      </c:barChart>
      <c:catAx>
        <c:axId val="95056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94913"/>
        <c:crosses val="autoZero"/>
        <c:auto val="1"/>
        <c:lblAlgn val="ctr"/>
        <c:lblOffset val="100"/>
        <c:noMultiLvlLbl val="0"/>
      </c:catAx>
      <c:valAx>
        <c:axId val="56994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56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158-45BF-4DC1-9F19-782C8463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FBF-BF15-412E-966E-7CCA1504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7AB-4343-4870-AB7C-4D9B60CA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E01-1FF0-4829-ABC6-63AAC491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473-FDC2-4AC4-9E61-8B7105BC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CA6-4CE1-4EDF-BE57-4E2C8215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C54-90E7-4B9A-8559-EE555374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C64-23D4-434A-A8CF-DFD6969D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A28-A833-4BA5-80A6-86F8AFFA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391-52FB-4053-8C7E-447B2200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613-79A3-476D-BA21-BFBD9DD4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C21-B76E-423C-8652-B7EC13B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15DAE-75B2-4811-98D2-036239279C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