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45098"/>
        <c:axId val="44883336"/>
      </c:barChart>
      <c:catAx>
        <c:axId val="699450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83336"/>
        <c:crosses val="autoZero"/>
        <c:auto val="1"/>
        <c:lblAlgn val="ctr"/>
        <c:lblOffset val="100"/>
        <c:noMultiLvlLbl val="0"/>
      </c:catAx>
      <c:valAx>
        <c:axId val="448833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450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AF43-88F4-4150-96C9-98942793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DCCD-5FE8-4775-BF24-C9C01D65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8835-50E9-4F2B-90CB-84A5088E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6DF4-9C17-46E1-B16D-F128BCF0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F651-A25A-4214-A379-E48AB2DA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9C8E-35CC-415F-A353-4657E77F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54EB-2D94-4765-BB2B-F25DCD1C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8064-9E14-41B7-B52F-E17A86FC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0BFF-7E96-4331-A545-CB4F0B8D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AD07-6195-4F64-B5CA-FD1E8475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4D4-0473-4571-B25E-E0EE6A8A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C23F-4993-4B4C-8EA5-B4E1085B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20AD2-F167-415E-BDC9-61D2B413EA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