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97897"/>
        <c:axId val="39981051"/>
      </c:barChart>
      <c:catAx>
        <c:axId val="93197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81051"/>
        <c:crosses val="autoZero"/>
        <c:auto val="1"/>
        <c:lblAlgn val="ctr"/>
        <c:lblOffset val="100"/>
        <c:noMultiLvlLbl val="0"/>
      </c:catAx>
      <c:valAx>
        <c:axId val="39981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97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5D6-E0B8-45FD-BB0B-0622461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04C-D42E-4F0D-9CFE-F61F7D09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5A7-661F-44FD-9672-EB8845FB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CFF-BD10-4122-AD21-7F6D0DDA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0FB-958D-40DF-AC84-FF41C942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EF7-E28E-40D3-BD9E-0317DF8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D51-C5EB-4DAE-8030-D843A20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631-F888-460B-A171-CF1307A6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BA0-7303-4E89-8581-1F7978FA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893-6D34-49D4-B730-2617D01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465-FF87-4FAA-A221-2F72E4B0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324-0034-41C4-A114-40307A7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B12F-5E49-432A-AED3-78644B1C1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