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59102"/>
        <c:axId val="92935760"/>
      </c:barChart>
      <c:catAx>
        <c:axId val="13459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35760"/>
        <c:crosses val="autoZero"/>
        <c:auto val="1"/>
        <c:lblAlgn val="ctr"/>
        <c:lblOffset val="100"/>
        <c:noMultiLvlLbl val="0"/>
      </c:catAx>
      <c:valAx>
        <c:axId val="92935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59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5C2-36B8-4D5F-B7C8-3922E11A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A0E-5131-42DA-93FC-88E7AB50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CA3-2929-44D8-82EF-7624B1E6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E87-495C-4F14-B95E-184CB405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79C-521F-4B83-8EBE-B05C45CA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D8E-7A04-4EEB-BA56-CD163250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C54-6D1C-4D36-9148-B512271F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8BC-A73A-49D5-9DFB-763E00D1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7A7-05A5-486F-8FE1-3A98B854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0BA-5F7D-4BD2-9C74-6AAEB566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0D6-7BE7-4402-B426-3BEF39AF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BF2-42CC-4D99-9820-5C4C280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E756C-E405-4CC5-93DA-1B69145AD5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