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87488"/>
        <c:axId val="14895139"/>
      </c:barChart>
      <c:catAx>
        <c:axId val="51687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5139"/>
        <c:crosses val="autoZero"/>
        <c:auto val="1"/>
        <c:lblAlgn val="ctr"/>
        <c:lblOffset val="100"/>
        <c:noMultiLvlLbl val="0"/>
      </c:catAx>
      <c:valAx>
        <c:axId val="14895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7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88E-AF02-46AD-893C-7B40B4D1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08E-709F-4D87-B06A-A65C81F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1F0-10DB-4C35-9730-6D56A0A9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D38-DE94-483F-B988-F34A925D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452-8E5C-4BC7-8192-F971D82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E44-C1FB-4A75-BD95-FDE76CC5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8F7-5E52-419D-A161-3187D28D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FBE-43DE-40EA-B9F6-6BEB489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62A-7C9A-473D-A003-3DAE1EAD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93F-7B58-4C31-B374-A591C61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56A-A5AF-4B36-AA67-1200AB74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9C8-8987-4F24-88FB-DFBB439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5CF08-B9CB-497F-B609-7B3B9949F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