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8275"/>
        <c:axId val="11724333"/>
      </c:barChart>
      <c:catAx>
        <c:axId val="6608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24333"/>
        <c:crosses val="autoZero"/>
        <c:auto val="1"/>
        <c:lblAlgn val="ctr"/>
        <c:lblOffset val="100"/>
        <c:noMultiLvlLbl val="0"/>
      </c:catAx>
      <c:valAx>
        <c:axId val="11724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8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44E3-FD76-495F-AF04-6730F991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36F-FD1C-4138-8BEC-B067D8EB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097-6BE0-48F3-86E2-F68991FC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8DC6-9211-4AAF-B69F-8C9FB474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284D-BAC5-4847-81EB-8638FA0E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7F40-2728-445E-868E-DE16706A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A5E0-3B38-4DFD-ACA3-E6487B78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006C-02F9-406F-9B3A-9DF2785E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271-811D-4E8E-9860-9BC267BA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938-907B-4F46-9320-219428D7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58C-6A65-48BB-9E9E-660494CD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1E8-CFD8-443F-A7F6-70F2795F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C757B-89C8-4A08-8E27-B3EAD8690D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