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7099"/>
        <c:axId val="6161416"/>
      </c:barChart>
      <c:catAx>
        <c:axId val="1267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416"/>
        <c:crosses val="autoZero"/>
        <c:auto val="1"/>
        <c:lblAlgn val="ctr"/>
        <c:lblOffset val="100"/>
        <c:noMultiLvlLbl val="0"/>
      </c:catAx>
      <c:valAx>
        <c:axId val="6161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53A-5ED5-4C24-95B9-337EA2B4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81C-F232-46F3-B109-B12EC93B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4FB-32D5-47F8-96FC-4FB5418E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037-49C4-4A7F-945F-0E002A36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29E-BC7E-4CB4-83C7-07DD36E3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557-E059-4201-8AE8-8819C666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5C1-63B6-4C77-B426-6D212DA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A17-8D76-429E-96DC-443FAFA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2F3-78FD-436F-8FCB-C7A5A68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FE0-C0C7-4802-B3EE-22A008C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B79-94FA-407E-9E69-8002CB5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AD0-D6E0-4D8F-8FAE-16476CC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21C4A-6B62-41F1-90C5-0A99483A81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