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81278"/>
        <c:axId val="72760650"/>
      </c:barChart>
      <c:catAx>
        <c:axId val="43881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60650"/>
        <c:crosses val="autoZero"/>
        <c:auto val="1"/>
        <c:lblAlgn val="ctr"/>
        <c:lblOffset val="100"/>
        <c:noMultiLvlLbl val="0"/>
      </c:catAx>
      <c:valAx>
        <c:axId val="72760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81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648-C8E1-47F4-963A-9B4A917C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405-CB0B-4F6D-8C14-CE2EE85A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B99-CC64-4C52-9921-37CE7A11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5BF-1D71-4784-B927-81A01DB1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FBA-1EB6-4985-96D9-49A74548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CB0-5794-4E38-8F1A-3CC5EB7F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CBB-F918-4667-86AE-DF100072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A90-F656-4896-B192-4FD177DE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EC3-FE43-40DD-9DB6-2E53202F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C62-F93B-4D08-8608-C146A8F2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D5B-122E-4DF7-AB7A-E823C907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603-0946-4E62-9F9E-FA48AB37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C090A-A252-467A-805A-1617A6657D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