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56349"/>
        <c:axId val="2545575"/>
      </c:barChart>
      <c:catAx>
        <c:axId val="90756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5575"/>
        <c:crosses val="autoZero"/>
        <c:auto val="1"/>
        <c:lblAlgn val="ctr"/>
        <c:lblOffset val="100"/>
        <c:noMultiLvlLbl val="0"/>
      </c:catAx>
      <c:valAx>
        <c:axId val="2545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6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E35-F9A4-41CC-9ADC-8A00E10F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E33-635B-4746-AA80-E9D6A9A8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999-AF52-4844-9F95-F4F72EF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3E4-0214-4DE6-8E7F-C1DAB199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74C-7A49-453E-9D9C-02B165C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D72-1F19-4330-B249-690E20C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F1D-20A9-47FF-A5DA-8301ED10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AC4-B9E6-49C9-99AA-D868141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690-978D-4076-89BA-92A013FB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1F8-48E9-4CB8-BCA2-A980CAE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948-FD0E-443F-9C26-9AA4CAEE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D50-1551-4558-BE3B-9FD0F59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95D92-1C65-4279-8921-E979D70222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