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785644"/>
        <c:axId val="97028269"/>
      </c:barChart>
      <c:catAx>
        <c:axId val="237856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28269"/>
        <c:crosses val="autoZero"/>
        <c:auto val="1"/>
        <c:lblAlgn val="ctr"/>
        <c:lblOffset val="100"/>
        <c:noMultiLvlLbl val="0"/>
      </c:catAx>
      <c:valAx>
        <c:axId val="970282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856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A860-DE5B-46E8-803F-62E964BC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0A5F-C600-47FE-BBC5-F4429510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E688-077E-451B-AB71-E8308EEBA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3811-463E-4DB3-B793-A1C9B34AA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1443-0FB7-4926-8757-F964223F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E230-D25C-4E5A-A283-15E6C0EB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FA15-07C4-4E5F-92AC-5C63BB7F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93CF-A3E0-448B-8D59-EE04E396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B75B-37B1-4131-9A24-FC9E92BF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A776-5BBE-418A-90ED-872C0308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3241-76FE-4CB3-A21E-D548BBE9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2859-6EA6-4EE1-BFCC-0472AF35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69B39-061A-4330-B00B-22FF630199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