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93113"/>
        <c:axId val="53848201"/>
      </c:barChart>
      <c:catAx>
        <c:axId val="718931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48201"/>
        <c:crosses val="autoZero"/>
        <c:auto val="1"/>
        <c:lblAlgn val="ctr"/>
        <c:lblOffset val="100"/>
        <c:noMultiLvlLbl val="0"/>
      </c:catAx>
      <c:valAx>
        <c:axId val="538482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931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93E2-CD80-40CB-B8E2-17A93F1C0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FC0D-8913-452F-8264-FC48C4C3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658-5655-44CA-9609-74D6E71A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642-7B8F-40CD-A4AF-629D09AD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2CD-1D5E-43C9-B297-5EF42D0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22E2-6B74-4CA6-A429-7EEF255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572A-7C69-4DAC-81AB-1EDD543D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34F-07F4-486A-85E4-A36E5D2D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254A-3B99-4A67-A4EE-D3B7DA5B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758-83DE-4DE6-A085-43741192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B513-79CD-4EB4-A542-E148511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18D-DE5B-479A-9586-A12823E4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A30FE0-D3F5-47B9-A312-FB6A698EC6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