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19426"/>
        <c:axId val="72771954"/>
      </c:barChart>
      <c:catAx>
        <c:axId val="38419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1954"/>
        <c:crosses val="autoZero"/>
        <c:auto val="1"/>
        <c:lblAlgn val="ctr"/>
        <c:lblOffset val="100"/>
        <c:noMultiLvlLbl val="0"/>
      </c:catAx>
      <c:valAx>
        <c:axId val="72771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19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EAC-CC8B-4EDF-A212-F4E60C99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EEE-209A-4259-8DC2-9F0D9A0A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1DC-0596-49A0-9D24-B5481659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C4E-DE4D-4588-860D-743EEC13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700-A076-4F11-A28D-120E72E6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267-FD47-42DB-9963-5F3D1F96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8C9-A5D2-47AE-B79F-CEA9E4A7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7D8-6582-43DB-93C7-3878ABD5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05E-3880-4125-840E-2A4265FF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037-21AF-456C-BE3B-6716B4D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A16-2C35-4634-B0E0-F88E76E4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B6A-BD12-45A7-B532-0A44DF19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B7688-189B-4E00-B287-F5FA0344BF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