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26456"/>
        <c:axId val="26349217"/>
      </c:barChart>
      <c:catAx>
        <c:axId val="82926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9217"/>
        <c:crosses val="autoZero"/>
        <c:auto val="1"/>
        <c:lblAlgn val="ctr"/>
        <c:lblOffset val="100"/>
        <c:noMultiLvlLbl val="0"/>
      </c:catAx>
      <c:valAx>
        <c:axId val="26349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6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63A-FE09-4412-9F9A-96327B91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D15-DF5E-413D-B66B-62A0120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E17-A6AB-4C94-9E20-773D8061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929-A52B-494A-A41C-5B853927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0E8-6AF7-4823-A0AF-06213D4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5AB-3E26-4FEF-B81C-A121634D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0FA-6458-4ADE-92BF-9C3DF0F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CB0-91A5-4EC1-89F4-6071FF98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04C-AA02-42B6-9E02-7932DC48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CDB-9926-448F-9BC8-71861BA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237-0385-4653-96C6-2532250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4BD-D871-45FF-A723-CD469510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F31B3-F8C9-46A3-AA5D-E31925FB3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