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37941"/>
        <c:axId val="29054393"/>
      </c:barChart>
      <c:catAx>
        <c:axId val="37937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54393"/>
        <c:crosses val="autoZero"/>
        <c:auto val="1"/>
        <c:lblAlgn val="ctr"/>
        <c:lblOffset val="100"/>
        <c:noMultiLvlLbl val="0"/>
      </c:catAx>
      <c:valAx>
        <c:axId val="29054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37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A60-CEA0-4273-8F60-38224AE7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A34-64A7-46B1-85F3-52A65F65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AC8-0E2D-4186-AE4E-C213462B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D6B-4108-4EAC-9F33-28DB2188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CCF-5245-43F5-84DC-465DCAC4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ABC-F975-4DF4-B5E7-E06FB82D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F7A-FF88-4210-AB61-39D443EB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5FD-9527-419E-97A4-09849582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8D6-0DAA-4D52-A332-38F90A62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0CC-A251-4507-AC2F-6C86906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16A-D90B-4B56-B3D1-067CC21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3ED-EF85-4C98-930A-85655BB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E9144-FB72-4152-B902-CC78D128BE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